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A26-E1A2-4151-BDBE-240B2334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748-E747-421A-A677-4FC3DF87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E5CB3-8F8D-4AA8-88FA-C5ECFDE0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98C32-546A-4BC9-A7BD-113CBA99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476E5-9D69-4D2B-815C-6F122C49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4F4F0-7A87-46FA-B661-BBDA20E3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2164E-9EB5-4394-9661-6A61C020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6B13E-F5BC-468C-8DB7-CB3232F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0CCFC-7BED-4AA9-B6DB-5CB1137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B8823-B2EA-4195-8CA8-C7B1B88E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1DA40-7337-43DA-95C9-7EA4BC4D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78755-26FB-48BD-AE5C-EB7FA7E6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9B2-C70E-4FCB-8B1A-DC311587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AD43B-4CB3-4BD0-9871-07400FF1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69207-D44F-408A-B86B-425D67D4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6490F-E32F-48FB-AF62-5B6ABF7D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EDE1D-A66F-4468-BA28-6FF39D6F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355AC-5097-4E0C-A53C-744D92E9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C536B-F39F-49D3-839C-A774053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41164-0FA4-40F1-8E52-2FEB6B5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89177-C9EB-4E12-BC36-CE2DC1E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DAD28-E6D3-4525-BD80-0280EEC3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8D531-6351-4D58-9EB7-4E71057C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328-C01A-4172-AFC4-9FD0CC42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8F305-59AC-4388-85BB-C8BBCD44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47DF8-7599-41C7-99A1-CC6CEE60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5A197-7840-40FA-9B39-CB2EB610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661E2-77BA-40AE-ABD6-1423A9BA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39D4E-C59D-4EFE-97A4-56B723B4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54F73-15D4-4E40-87D6-8A7B8B59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47CB2-C729-41AD-AB52-1256FDFA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29731-C62B-4509-87BC-B712213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28A0B-10A1-45B8-942A-6BF12B3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E4AE9-FF69-4C18-88C8-ED69A0D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A2BA-114B-41F2-A962-FFF6CBE3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C1A6C-52FE-41BB-A098-E9730766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2C4A0-991C-492C-9DE5-A9438BDA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CABC2-4D22-481E-B7FC-30CAB16B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FE16D-BC0B-4FCD-862A-4F59BD08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54E65-CA21-424B-96B6-494CD219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9EEB0-4AFB-4A85-919C-D66C337F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A2AB4-8239-470C-B4C2-BC095986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8BC54-1CB7-4F2B-B783-25D7EA23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34DB1-4697-4933-A94E-3ED84F12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44DDC-507D-4D94-9382-5A75CB0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C074-3AE6-4463-8572-87E6E0C6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8B75B-84D7-449B-B4AA-22C21DC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DCE06-6C21-494F-A127-751E5566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2BF0A-4A04-48E0-B9DA-F645299F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B046E-6ABF-45D3-825D-8C02F69B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D6980-24B0-4CDE-BCEF-2B4A74CA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A8B82-7290-4AB9-B48E-AAB83F3E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6D163-6493-416A-8FB8-4693183E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4229E-BDF0-4694-BD07-E39CECAA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27990-C884-492E-9E50-88674CB1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BCC42-756B-4DB6-A452-090FEF0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45DD-DAC0-4AF2-9B87-E911E858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8C70C-3B12-4DE2-A642-643D748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1D371-1D47-464C-95E0-9CE3DC8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E7C70-1634-4B9E-A0AD-7056DB23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0D680-942D-4754-A40B-45D6F8D9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5EFB1-5DDB-4230-8E1A-A5DCAF91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3A52E-0D01-413F-AA8C-8F64F16C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160D0-5F3C-4FFF-90F1-87F37FA8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7B66A-581D-49D1-B2A8-544D01B8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44D19-8FF1-4B3F-A56C-4B1B2A6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1DF43-A613-4FFD-9EA9-C925C66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9443-2E26-450D-9C1D-E74A688B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677C8-C4F1-48B4-BD7A-070BAA61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9BA85-E657-49BA-91E8-00582C08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0CBFE-E78D-4A3F-B3B4-3C81560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F9278-5C33-46A5-8F91-D093557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BAE44-3901-4C0B-A387-FE30BDC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4F2F4-8E60-40A8-AF80-0436E143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215CC-BE4E-4C54-9A2D-0699AB99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AF36F-CA14-4094-A225-E37D57B1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3B352-00DA-4FAB-A4E2-E5F91114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9908-CFC9-420B-83CD-E3380069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2762-15BB-40F7-A7FE-D75FDA28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C44-41A9-466A-980D-3B47066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264-DD81-4F92-BC88-308EA66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935F-598A-43CB-BEDE-62D3348B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A505-F25B-4C82-A25C-00F14D9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8414-AE73-4E48-83FE-59467510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292D-43E1-43A4-90FB-6191055B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29FA-F27A-46C7-BC3F-0B51BCF0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B7570-8C34-4850-A6DB-A584AABA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B1474-FA96-40B8-AC4F-0DCDA0B3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9A5BF-C1D4-41C1-9715-082C3F08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0A260-F341-47AF-B433-E67400D1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3344B-B481-4F28-B172-91D58DE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7BC-020E-4544-BE3E-14C4B7DA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7AC69-9EBA-4A02-9367-93EC080B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28A8C-CAD9-40BE-9C1C-BA7A7EB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63B4D-4B91-4F89-BC2F-CB568CD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150F6-935E-47FD-89EC-2BBB8AC3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68B6A-208E-46C7-B8F9-C1CEC76F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75C0E-B026-4121-8C60-BA8949FC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FB754-3D90-4A09-8586-55809ACF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D9F3-E4A2-463F-A8D9-F69B4F37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9207-FAA9-49FA-B602-E535C18F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F9769-FD0C-469D-AB08-9B14B383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16C-905C-4B57-873B-C5E4BB7C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8238-67C9-4569-A02B-A081E882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9829-D41D-4F2F-9CD2-19689852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BF25-3A3B-4E28-92ED-8FCD0505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F6818-045A-4AF3-8469-0AFBA2CF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69E8-502A-4EF4-90AD-44D4D81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37DC1-0A5E-4A2D-A9F1-DDFB973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284D-B06D-47BD-9969-9A75E6FC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B714-8C40-4B3D-B727-C1B8FCC8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A788-F38A-4D1A-8F06-74E7CCFD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113D-7EE2-46A7-90F5-72381DCD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6AD-AF92-4D32-9CB4-3D145187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9B6F6-6CD4-48E3-8945-6D0250A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379A-54C5-4FDB-BA44-0F9567F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1C7C1-9DD2-4649-93A2-130B92FA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2C4D-580D-48C1-AB66-4E914724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185DC-FC56-4690-BA65-2A2B6E9E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E8D4-1774-42A1-AD51-FA6CE92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6933-83AA-4413-9387-8909E2E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51B7-31FA-4A6D-90B9-8A6BC60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7215-7E9A-4C26-A70D-00F60B19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9E5AA-20A8-4882-8DFF-C7DCB25A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804-7F08-4AE9-B5EE-AD0BA17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49BE2-4134-485B-8D67-4E247ABA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2BF2-7819-4C21-9CCF-F37CF207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C285-3B5D-4AD2-A698-AF9A9CB6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A45C-C538-4C17-873E-3D7B2255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1718-B826-4A7B-9BD6-CB06991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57097-2AFA-47A3-977D-DAC07489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D2198-8B8D-44A7-A22A-702EE9C7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8C003-B98E-41E4-9478-664ACBD4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0719-EEAA-4235-837E-C16F62ED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2DB36-02CF-415C-A79E-E1D158B8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561-B00E-4049-9D78-947AE64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EF8F-BA5E-47DB-B72D-155471BC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AE76-4D46-4152-8ADD-04585C81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5A318-0FC0-4E49-9DE8-0C52D325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28C1F-0738-4DEE-B033-7CFB9281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74F3D-091D-4B76-BE7E-01840F4D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F4C34-6C32-4FC8-95F0-D9C58B5C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6A76B-3EA2-4340-B6EC-7D5F81DA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6F5A4-2D34-41FF-8C2A-279C82F2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9D60C-E922-4F04-8D90-E484C318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5F108-6D9F-4ACD-959F-ABC73F5A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381-418F-40A8-838D-8FB1E18B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AB36B-CAE1-4091-9799-4E481C0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9FD24-A4D3-4CD1-8C6B-807ECB2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F4E0-133B-4383-B16C-06059D4A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674CA-21E9-48C0-BE84-6196ED7F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56A65-73D0-4A7B-A6BB-EEC49A4A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79B44-1959-429A-A32D-FF3DC585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BC9D7-D3D0-466A-9928-C758DFE9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9A0B2-CD18-49F8-8960-8B4F9136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677B6-DDC5-4868-8AA1-60162B83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AE213-71A3-470A-9786-4A3703E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828-6291-485F-B128-CB53219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D6FBB-A735-485D-9258-C05E331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68D9C-DF4D-4682-BA2B-5516CA8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0809C-61C4-4E42-BF8B-BDBD30F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CFA9-25EC-48C0-A7A8-EF91FDA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3159A-F6E4-4CCD-A633-5D2BFADE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CF589-35BE-4900-8F45-4588A976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60E28-9FD4-448B-8AC4-CAFED71A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2BE30-5638-4294-97F3-58DDD9D1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4551B-669B-4BE8-8FA7-0A5EFD2F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C451C-2D6F-49EF-8260-875AD9E5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95FF-7D41-4DCE-B4EF-8610B0F6D9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9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3EA7-9E96-468E-9A02-ECA32BAB14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10D7-AF6F-4DF6-BDED-C8E84BAD9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038-6E0A-4FD8-921C-E45C8D522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16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3273-53A5-4555-9874-629B6471C5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1" name="PlaceHolder 1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0E99-8B41-4DA9-A07A-70A4EF03C3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AF79-6821-4129-B714-7A2792AEDA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B69-24C1-4EE4-919F-986DCC5FC3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1058-303B-47B1-87C7-307B33F53D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8BF2-D803-4D8D-AFB2-7850C039F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DAFB-CA20-4728-9167-8DF1C6D32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374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85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4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7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4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5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6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1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22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423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4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5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9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0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1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0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472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4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485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492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7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461E-885D-47E9-B1FD-75DBFBBD59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539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50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87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88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9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0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1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2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4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5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6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7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8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9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36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637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9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9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650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657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6ED8-64BB-475F-BCBC-2B0978D0B9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1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9C0F-E61F-484E-ACD7-347D50A342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900000" y="2349360"/>
            <a:ext cx="763272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tributul adverbi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Ce este atributul adverbial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Este exprimat prin adverb sau locutiune adverbiala insotita sau neinsotita de prepoziti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tributul adverbial de lo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 locul unde se petrece o actiune sau exista o stare. Exempl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El se bucura de caldur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 afa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tributul adverbial de timp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rima timpul in care se savarseste o actiune sau exista o stare. Exempl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Asa erau ierni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e altada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stepta sa vina timpu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e atun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tributul adverbial de mod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est tip de adverb arata felul desfasurarii actiunii, al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xist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i stării sau al posedării îns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rii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mp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Er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i supar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 data trecu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2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servati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ibutul adverbial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ta intotdeauna dupa cuvantul determin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ste insotit de obicei de prepozit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u exceptia atributelor exprimate prin adverbe de mo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u se desparte prin virgula de substantivul determin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2438280" y="333000"/>
            <a:ext cx="6400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cest proiect a luat sfarsit iar eu v-a multumesc pentru timpul acorda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4:12:28Z</dcterms:created>
  <dc:creator>user</dc:creator>
  <dc:description/>
  <dc:language>en-US</dc:language>
  <cp:lastModifiedBy>user</cp:lastModifiedBy>
  <dcterms:modified xsi:type="dcterms:W3CDTF">2011-05-09T07:46:36Z</dcterms:modified>
  <cp:revision>4</cp:revision>
  <dc:subject/>
  <dc:title>Diapozitivul 1</dc:title>
</cp:coreProperties>
</file>